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3600" cy="124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11798280" y="-11796840"/>
            <a:ext cx="11796840" cy="124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-11798280" y="-11796840"/>
            <a:ext cx="11796840" cy="124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-11798280" y="-11796840"/>
            <a:ext cx="11796840" cy="124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-11798280" y="-11796840"/>
            <a:ext cx="11796840" cy="124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-11798280" y="-11796840"/>
            <a:ext cx="11796840" cy="124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-11798280" y="-11796840"/>
            <a:ext cx="11796840" cy="124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-11798280" y="-11796840"/>
            <a:ext cx="11796840" cy="124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-11798280" y="-11796840"/>
            <a:ext cx="11796840" cy="124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7FAC6-72B9-42BD-A7BE-084A23CD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6CA82-A04B-4BAD-9E92-33624AED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1F262-1117-4CF7-A66F-AD59BABD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BB9BB-3A6F-4B73-B37D-A1DA8509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EC90-9F05-4907-9E45-C475A0E5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A3B6-50F5-43F9-AB9C-6DB09565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DFB4-0ED4-46F1-9FB8-5E24974D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F89E-E878-4481-AFBB-D868CB4E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0A2F-2A87-4BCE-AEE1-9C866196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C322-E882-47A5-AA4A-F0A41C1D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9486-9B4B-42BB-9C2E-D2B67007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137EE-8442-4FE7-BECC-D0E53C16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AECD-795F-4F23-855E-B627D4FD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2099-4057-4DEB-B63A-E6E55EC3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07CF-4BFC-4F74-B071-D02932F0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C50F-CCF4-4946-B870-6B82F92B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40AF-FE7D-4BF4-A0F1-853892FF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363EB-20BE-4EBE-B834-4AEC00B4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A4CE7-3B69-4E09-94B2-64EFA9AC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912C3-E41E-4A2F-95AC-6E69C7DD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52728-5861-49B5-9D1F-B5E02AE9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76F2D-7EA6-4EB1-BBC8-DD8EACE5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9AD87-55BD-4D19-933E-CF5C4186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C88DE-B528-49C5-967B-CA58688C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996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D0668-92C2-4A42-8551-F348DA6F377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24852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9800" indent="-282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3720" y="624996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532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E2B4638-A5D2-473E-99CC-44386AE89997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9800" indent="-282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ing-selbstcoaching-kurse.de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e5e5ff"/>
                </a:solidFill>
                <a:latin typeface="Verdana"/>
              </a:rPr>
              <a:t>Herzlich willkommen </a:t>
            </a:r>
            <a:br>
              <a:rPr sz="3600"/>
            </a:br>
            <a:r>
              <a:rPr b="1" lang="en-GB" sz="3600" spc="-1" strike="noStrike">
                <a:solidFill>
                  <a:srgbClr val="e5e5ff"/>
                </a:solidFill>
                <a:latin typeface="Verdana"/>
              </a:rPr>
              <a:t>zur</a:t>
            </a:r>
            <a:br>
              <a:rPr sz="3600"/>
            </a:br>
            <a:r>
              <a:rPr b="1" lang="en-GB" sz="3600" spc="-1" strike="noStrike">
                <a:solidFill>
                  <a:srgbClr val="e5e5ff"/>
                </a:solidFill>
                <a:latin typeface="Verdana"/>
              </a:rPr>
              <a:t>Timeline-Reise # 4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e5e5ff"/>
                </a:solidFill>
                <a:latin typeface="Verdana"/>
              </a:rPr>
              <a:t>- Schuldgefühle loslassen</a:t>
            </a:r>
            <a:r>
              <a:rPr b="1" lang="en-GB" sz="3600" spc="-1" strike="noStrike">
                <a:solidFill>
                  <a:srgbClr val="e5e5ff"/>
                </a:solidFill>
                <a:latin typeface="Garamond"/>
              </a:rPr>
              <a:t> -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2681280"/>
            <a:ext cx="6400800" cy="29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7343640" y="0"/>
            <a:ext cx="1800360" cy="180036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99280" y="360360"/>
            <a:ext cx="720720" cy="720720"/>
          </a:xfrm>
          <a:prstGeom prst="roundRect">
            <a:avLst>
              <a:gd name="adj" fmla="val 21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19240" y="2276640"/>
            <a:ext cx="568008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2276640"/>
            <a:ext cx="59547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84720" y="4005360"/>
            <a:ext cx="119052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King-Selbstcoaching-Kurse.de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585720"/>
            <a:ext cx="77691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e5e5ff"/>
                </a:solidFill>
                <a:latin typeface="Verdana"/>
              </a:rPr>
              <a:t>Worum geht es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075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chuldgefühle…</a:t>
            </a: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    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chlechtes Gewiss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Bedauern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dass man etwas getan oder auch nicht getan h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elbstvorwürfe und Selbstanklag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7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</a:t>
            </a: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ww.King-Selbstcoaching-Kurse.de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5e5ff"/>
                </a:solidFill>
                <a:latin typeface="Verdana"/>
              </a:rPr>
              <a:t>Situationen aufschreiben </a:t>
            </a:r>
            <a:br>
              <a:rPr sz="2800"/>
            </a:br>
            <a:r>
              <a:rPr b="1" lang="en-GB" sz="2800" spc="-1" strike="noStrike">
                <a:solidFill>
                  <a:srgbClr val="e5e5ff"/>
                </a:solidFill>
                <a:latin typeface="Verdana"/>
              </a:rPr>
              <a:t> „Schuldgefühle“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nke an Situationen in deinem Leben, in denen du dich schuldig und schlecht gefühlt hast… vielleicht fallen dir auch Situationen/Ereignisse ein, über die du dir heute noch Vorwürfe mach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chreibe diese Situationen stichwortartig au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Wenn du JETZT daran denkst  - auf einer Skala von 0 bis 10 – wie hoch ist dein „Stress-Wert“ auf der Skala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ww.King-Selbstcoaching-Kurse.de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Verdana"/>
              </a:rPr>
              <a:t>Gefühls-Assoziationskett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-------------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-----------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------------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------------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 --  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z.B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                           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sich schuldig/schlecht fühlen</a:t>
            </a:r>
            <a:r>
              <a:rPr b="0" lang="en-GB" sz="16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1. Ereignis</a:t>
            </a: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, 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in dem dieses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Gefühl entstanden ist</a:t>
            </a:r>
            <a:r>
              <a:rPr b="0" lang="en-GB" sz="14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Ich gehe davon aus, dass Gefühle wie in einer Art Assoziationsket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abgespeichert sind. Und wenn du heute dieses Gefühl von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.... </a:t>
            </a: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hast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dann hast du dieses Gefühl bestimmt auch schon vorher gehabt..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und davor... und davor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Es gibt ein </a:t>
            </a:r>
            <a:r>
              <a:rPr b="0" i="1" lang="en-GB" sz="1800" spc="-1" strike="noStrike" u="sng">
                <a:solidFill>
                  <a:srgbClr val="ffffff"/>
                </a:solidFill>
                <a:uFillTx/>
                <a:latin typeface="Verdana"/>
              </a:rPr>
              <a:t>allererstes</a:t>
            </a: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 Ereignis, in dem dieses Problem/Gefühl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bzw. diese Blockade entstanden ist. Und das ist es, was wir </a:t>
            </a:r>
            <a:r>
              <a:rPr b="0" i="1" lang="en-GB" sz="1800" spc="-1" strike="noStrike" u="sng">
                <a:solidFill>
                  <a:srgbClr val="ffffff"/>
                </a:solidFill>
                <a:uFillTx/>
                <a:latin typeface="Verdana"/>
              </a:rPr>
              <a:t>gleich</a:t>
            </a: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suchen und finden werden…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ww.King-Selbstcoaching-Kurse.de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Ermittlung des 1. Ereignis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5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9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Garamond"/>
              </a:rPr>
              <a:t>Wenn du es wüsstest, wann – und es ist noch nich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Garamond"/>
              </a:rPr>
              <a:t>wichtig zu wissen, was da war, ich frage nur na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Garamond"/>
              </a:rPr>
              <a:t>dem WANN – dieses Gefühl entstanden ist...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5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5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5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5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5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800"/>
            </a:b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5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5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Garamond"/>
              </a:rPr>
              <a:t>... war es vor, während oder nach deiner Gebur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19280" y="3141720"/>
            <a:ext cx="5103720" cy="163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ww.King-Selbstcoaching-Kurse.de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474480"/>
            <a:ext cx="7769160" cy="6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e5e5ff"/>
                </a:solidFill>
                <a:latin typeface="Verdana"/>
              </a:rPr>
              <a:t>Ökologie-Frage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226360" cy="56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motion: Schuldgefühle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atum: ………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Was werde ich verlieren, wenn ich dieses Gefühl gehen lasse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Was werde ich verlieren, wenn ich dieses Gefühl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Verdana"/>
              </a:rPr>
              <a:t>nicht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gehen lasse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Was werde ich erreichen, wenn ich dieses Gefühl los-lasse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Was werde ich erreichen, wenn ich dieses Gefühl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Verdana"/>
              </a:rPr>
              <a:t>nicht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los-lasse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Welchen „Gewinn“ gibt mir dieses Gefühl? Was ist das Gute daran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Welche anderen Wege kann ich auch finden/gehen, um diesen Gewinn zu  haben, das Gute auf andere Art und Weise zu erreichen, nachdem ich diese Gefühle  losgelassen habe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ww.King-Selbstcoaching-Kurse.de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e5e5ff"/>
                </a:solidFill>
                <a:latin typeface="Verdana"/>
              </a:rPr>
              <a:t>Reise-Stationen &amp; Hilfsmittel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15880" y="1600200"/>
            <a:ext cx="631044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ww.King-Selbstcoaching-Kurse.de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Verdana"/>
              </a:rPr>
              <a:t>Reise-Nachbereitung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chau auf den Zettel mit den aufgeschriebenen Situation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Wie ist es JETZT, wenn du an die Situation denkst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erneute Einschätzung auf der Skala von 0 bis 1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Wie geht es dir jetzt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Wieder gut geerdet und im Hier-und-Jetzt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Viel Wasser trinken und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arauf achten, was sich verändert hat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ww.King-Selbstcoaching-Kurse.de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e5e5ff"/>
                </a:solidFill>
                <a:latin typeface="Verdana"/>
              </a:rPr>
              <a:t>Audio-Workshop des Monat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Schon gewuss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Auf meinem Blog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www.King-Selbstcoaching-Kurse.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gibt es jede Menge Audio-Worksho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zu unterschiedlichen Them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ww.King-Selbstcoaching-Kurse.de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gelika King</dc:creator>
  <dc:description/>
  <dc:language>en-US</dc:language>
  <cp:lastModifiedBy>PC</cp:lastModifiedBy>
  <cp:revision>0</cp:revision>
  <dc:subject/>
  <dc:title>Aerger loslassen</dc:title>
</cp:coreProperties>
</file>